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211A-FA33-4E39-9653-E7797EA7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E8C-B271-40CD-8BD2-27A4FF58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2DD-A016-474A-84BA-A5603FD1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7BD-60DB-4A1B-898C-1148B306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A28-CAE5-4865-AB96-CEAF35A5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CB4-58C7-4268-A7D1-FB6BC87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48B-CC0D-4570-99D4-205CA03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510-1636-4B04-B27B-28107C1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0DC-147C-4631-B256-6D1258E9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1CB-9316-4DE7-9E6B-2D0BC20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7FA-C83E-431D-9348-2E0DFC68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1EB-5028-4F39-A6BB-1BEEE2D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301B-B81E-487C-8357-80BBFD79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and Na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aquel and Geor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0600" y="380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lived in Central Mexico- Valley of Mexico their capital is Tenochtitlan that was built in the middle of a lak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lieved in many gods so the were Polytheis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ther tribes as slaves and human sacrifice [ important 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tecs brought down smallp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51160" y="54856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in the Yucatan Peninsula on the coast of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yas controlled many other tribes and made them tribu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dn’t care as much as other tribes about gol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8320" y="175248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57800" y="63237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o.missouristate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lived in the Andes Mts. of South Ame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no written language but sent notes by using kn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id animal sacrifice [lamas]  but on special occasions they did human sacrifice with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6280" y="1600200"/>
            <a:ext cx="4019400" cy="449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63237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was a Spanish explorer who traveled to conquer the Aztecs with 500 armed men  and 16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zuma thought that Cortez was Quetzalcoatl a pale skin Aztec go  and welcomed him and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521 Cortez came back and defeated the Aztecs once and for all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867120" cy="441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38680" y="6253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is a Spanish explorer who traveled with a total of 180 men and their 27  hor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 civilization lived in the Andes Mts. of Peru in Sou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were easily taken over by Pizarro and the Spanish because they were fighting a civil war which is when two or more groups are fighting each o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38322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6171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sol.edu.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conquistadors change Central and South America for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quistadors [who take over by force] changed Mexico and South America because now everyone living in the area speak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Aztecs, Mayas, and Incas culture and traditions 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038840" cy="4495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57800" y="64904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ovst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16:43Z</dcterms:created>
  <dc:creator>jklib</dc:creator>
  <dc:description/>
  <dc:language>en-US</dc:language>
  <cp:lastModifiedBy>jklib</cp:lastModifiedBy>
  <dcterms:modified xsi:type="dcterms:W3CDTF">2011-11-29T14:27:10Z</dcterms:modified>
  <cp:revision>4</cp:revision>
  <dc:subject/>
  <dc:title>Spanish and Natives </dc:title>
</cp:coreProperties>
</file>